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B0BD-53A5-4CCE-8F67-DC1D105AF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AE3A-EA80-4C6D-9583-68F89BF54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ECF3-17BC-49F7-AB98-85077C5AC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E06F-4894-47BC-9B8B-79853C08C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70FC-2411-4B27-9071-2D85BAB70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A732-0A9F-4383-9F42-6736CD079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17A8-B8E1-47D0-A145-61380E0FE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CD33-8FA8-43CA-8E8C-CF457682E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4F10-72DF-4D90-98C0-30E568FD4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D439-D8E8-4D41-986E-EFC231B30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C9EC-1646-4E5B-8442-991A1B709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C01C-34E8-4C77-AFCC-E193F8C0D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3C2A-D69B-4DDE-9640-8976CABBD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473B-5144-4D71-8F26-A5CE46790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1037-2C52-46A6-9615-6D9CBC07E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15C4-579B-47D1-BCF0-298ABB0F1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6887-B6BD-4238-A3C2-913AFE2A3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F3FA-1340-466B-B1FC-7A346CB5F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2ACD-638B-42E8-8785-018C6C214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6390-BB7E-45FC-82BD-8710DABFD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B4CD-DA07-493D-A805-F34C18FB4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24F2-FDC3-443D-A28F-177E90D1A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5E19A-DB25-4788-A48C-2365354A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DA7DD-B9DA-467E-A66E-487FB43E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7430A-F8BA-46FE-B5BE-6BFEBD4F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E0A07-916A-453F-AD8A-69E244DA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1C54B-BB55-46AA-B2B2-C29CFAD1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3BBB4-3B31-401F-8F3E-0A6C309E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CBB43-1E33-4069-9A84-B0563F15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32D9D-EDFD-466A-9210-8CC7D6959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6F2F5-71FE-4E72-8130-EC3AA19EF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71E15-334D-4DE2-B7CE-C06B65C8D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980B9-3BFE-45D1-9244-D6A01316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CE3B1-4586-44E2-951F-F7B55B83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8EF8E-D9E8-4A6C-BE65-3CAC27FB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C7441-515D-4A52-8C0C-03DFC64C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1DA97-9353-484B-BF05-D22858FE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102BF-215E-4A73-AE4A-51261E60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0CB43-F676-47CB-9127-73DEE71B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065DC-83EB-4B3B-87CF-D0F28E56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EA342-5A03-472E-891B-493D973B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F0916-66BC-43E0-BE8A-BB3BE098C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2B202-2C37-4EA3-854E-0247CE695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A46BF-260F-42F7-A116-23E5F1F23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419EC-C9AA-4F92-88C8-DDC588E6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9FE38-BEAD-4AEB-92CC-093C82D0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61DF5-5065-4ADD-9622-916738B3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7798D-8FC7-47F5-90B3-8BFC160B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5D09C-A233-4991-B133-797ACD72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09A4C-E9B9-44B7-907D-80328B29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2D15B-1CB0-4858-88E6-1D26656C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94286-4690-43E5-85B0-5D52E594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9E31-7FF1-4ABA-BFCC-5C6986394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FE26A-5654-4CAD-AD3B-EA22EB83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3950E-3AB3-4B0B-BC70-D737F90DE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54726-0E87-46C4-A2CD-2F985FE46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F1AC47-102B-43DC-B985-7D82C37F3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657E8D-416A-479E-BDC5-FB69771D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85F6DB-D721-4C4E-9F46-1CD58AF1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6F091E-58F5-4D3E-933C-D5B24591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1DC3CD-EC44-4837-A773-4922EBB6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BD24C5-1668-465C-81C4-C07B165C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F21B5E-1A4E-4FE8-8D37-6B983084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702C-5674-475F-9294-4E82CA5E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3E8813-2CFF-4625-B4FF-A3350C27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C2F5D-A1EF-4B8A-A01E-8FEED7A4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6CA00-7CB0-49CA-93D1-3AF7EAB9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A5D27C-39D8-4030-A6F2-B35DF3706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C145B3-B6DA-47B4-B51F-FF7DA0AB5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621E4A-F6F2-4316-B723-8156951D2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0177D5-A078-4AAA-A3B6-C3DC3309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D43B6B-EB8A-4825-B8D5-EC12A9F6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36D335-ED06-4CED-8A63-57BF022E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5CEDDE-EF70-4529-A351-EFAA4BB8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0BE3-82B3-42C5-8B7B-845843A9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ECD85E-182E-42E4-A03C-0F135CC2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BCF5D9-681F-469E-AB95-0877D1DA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9AAFF5-B7ED-4F8D-A53D-2BFCB00E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8F18D7-0F3B-4C23-B9A6-43F29A5B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6A2E8B-26E3-487D-BBE0-351D4125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C88F63-F562-4FFA-B8EF-C6AA86FBA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F6E20B-4AAD-43F6-8348-F13385756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FE7D8-DC9A-414B-965F-59700A3B8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98981-1D52-46CC-8A66-C4BF64FB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D44AC-DFE1-4C3A-A895-6851E780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09FE-8131-4A4E-B126-FFACF21E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62628F-6649-4580-8CBB-51B3F815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E4197-1C2A-45D2-AD52-E63B4D48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48B72-2973-415E-8806-DC965898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5ABF2-5BF8-4FB6-B54C-C71B7CF2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659D4-B436-4B68-8800-5628D1A0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83D966-FD03-4E08-B38E-DA7AACA9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87F00-C541-4E09-9EE6-ABFD4F3F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79762A-A7AF-4FFE-98DE-34B157A9A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8015B-2EA0-4EF7-B2D7-D8940FA5A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A8298A-ED05-4971-8D30-C21A174D3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5FF6-AA77-4026-891B-61DA1C43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6B641B-B556-4C34-A6A3-2116E3FE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3CFF3A-7D39-44BB-B070-915FE430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3ED716-E1AA-4038-ACC4-1F70CCB4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F6C522-75D2-4489-AF99-A1E7E49F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2F2669-5C18-4869-ADB7-A6C38BBC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92DD68-901C-4067-8E32-538F354B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06F73E-4D02-4B3D-B775-65D4A092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B7C671-266D-42A9-8DF9-D756BD90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58A434-D112-4F10-901F-EB4D3DAE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6AB759-006A-482E-8A09-40C601A8B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2857-1C3F-40EB-B6CC-BC65C06C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E0C52D-6A4F-481F-AFD1-75F371F10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2DDF-A556-4718-8105-F4216D9B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05AB-930A-4C77-B506-42EFF0C7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E506-5D70-45AE-9423-0A187510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5CBA-932D-4773-ACBC-EB252750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D55C-3C52-47D9-8CF5-06AB5F1CE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E86F-088F-43D8-A551-482196C25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B6BE-8558-4C5E-922E-A4ABB1DAA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87B44-B5BE-4D9D-850A-42E9AF78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B2005-27F9-4CA9-B048-AFEE41F3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D211-EB65-4B24-A246-DD767D78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67C66-509E-49AC-91C4-FD55D972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EF4A-99B0-4229-9956-1A8F9833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7363-BDAC-4ED8-9AD6-564BC4BF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1468-178B-4110-9D26-E9B58D73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9E9E-61C1-4008-8884-E1C7B37B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C078F-1EDA-472A-9BD9-AECF51C0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A3D2-D5DA-4773-80FF-C5A8A4BA9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A080-94CA-4B1B-B7E7-6558E2396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D2A6A-55AE-4DC7-B534-7A991C74F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10A1C-EBB2-4AC9-BB50-5E8B7C79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B3954-6B66-4D2F-8C3B-FCD3DED3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6EA9E-0C20-4100-BA3A-78F3E6BA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AE5D3-F918-4274-8953-2A22E036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2D4EB-92E6-4C50-88D5-14BA0FCA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829D8-A96D-41DF-A53B-3CB8F81E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0C6D1-A69D-4EAD-B710-DD01208C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4BB67-595F-42A9-A99A-86B0E42D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62EDA-03F0-47E2-A0C0-AFBE4FAB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5A55F-08C1-490F-B3BC-F79A23568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41567-5C95-42EB-9769-71AEFDCAB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7794E-5C78-49C9-A986-BF654AEC1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3EE77-3357-4845-9C19-57A47E5F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B8839-8DE7-46AF-BD2A-9AA4D9B3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3E570-2500-4332-BAD0-5D2AC4DF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CEA52-E039-4D1F-8B43-2900E34A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15B88-8F32-4AFD-B1BC-A533D048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50168-3029-4F10-B7DA-4FD1D95D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A075D-05CB-4129-9912-908EBBB7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2E484-B0CE-400C-A622-739B19E1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57CCC-CB02-4E86-B49F-03AD6C22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308AE-E022-42A9-9546-7365DEF46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1CDF6-A64D-4BDD-8535-B2B44669C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37BDD-5CC5-4766-9D38-316C1DC31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0F23E-6615-4F2A-A6B9-7AD570FB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D5BA8-89B9-48B7-A7D2-1CA33C29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EBE4C-0FA6-420F-8704-C6F43771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0710B-5763-42C3-A7B7-59E34694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0FC6D-3335-445B-8072-CFD41337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37366-1DA7-4805-81BA-DB240DFD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43240-6EBB-4A43-8E4F-4914930D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0CA5E-B123-4B16-B31B-E37B70F3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A23B3-400E-4F0E-ACC8-39F8BD21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94BAB-D7F2-4A58-81E6-9BA357880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E482A-5D51-463A-B3A5-9D13B5119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EA854-E34F-4E39-BAC9-F37249DB2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9005F-4338-453A-824A-B637ED25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2D6EE-BB44-470F-9CBB-B996FB19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Text Box 13"/>
          <p:cNvSpPr/>
          <p:nvPr/>
        </p:nvSpPr>
        <p:spPr>
          <a:xfrm>
            <a:off x="59760" y="6539040"/>
            <a:ext cx="12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84b81"/>
                </a:solidFill>
                <a:latin typeface="Arial"/>
              </a:rPr>
              <a:t>Wilson et a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5"/>
          <p:cNvSpPr/>
          <p:nvPr/>
        </p:nvSpPr>
        <p:spPr>
          <a:xfrm>
            <a:off x="3509640" y="654516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GU Talk, Dec. 17,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7"/>
          <p:cNvSpPr/>
          <p:nvPr/>
        </p:nvSpPr>
        <p:spPr>
          <a:xfrm>
            <a:off x="7705440" y="655308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D376-9ADE-4161-99E7-A30426A46715}" type="slidenum">
              <a:rPr b="0" lang="en-US" sz="1400" spc="-1" strike="noStrike">
                <a:solidFill>
                  <a:srgbClr val="184b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9BE2-29B5-43DE-9813-1B31A4D72BB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DBBE-6C0B-4F79-9438-B8EFA8179E0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756B-6431-44E8-83F2-C0436D3B60C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B18C-1AFF-4E86-89CB-81D7CAEF652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AA7E-8A9E-4F06-811E-FDB0C538F6B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5FD2-2227-45EC-9090-9252F12E75E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ilson</a:t>
            </a:r>
            <a:r>
              <a:rPr b="0" i="1" lang="en-US" sz="12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et 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AGU, San Francisco, Dec. 16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2EA7-0079-47A3-88E9-06A9C7DFCC0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3"/>
          <p:cNvSpPr/>
          <p:nvPr/>
        </p:nvSpPr>
        <p:spPr>
          <a:xfrm>
            <a:off x="59760" y="6539040"/>
            <a:ext cx="12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84b81"/>
                </a:solidFill>
                <a:latin typeface="Arial"/>
              </a:rPr>
              <a:t>Wilson et a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3509640" y="654516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GU Talk, Dec. 17,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7"/>
          <p:cNvSpPr/>
          <p:nvPr/>
        </p:nvSpPr>
        <p:spPr>
          <a:xfrm>
            <a:off x="7705440" y="655308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C7FDE-46C6-410B-A741-4F4CCB57698B}" type="slidenum">
              <a:rPr b="0" lang="en-US" sz="1400" spc="-1" strike="noStrike">
                <a:solidFill>
                  <a:srgbClr val="184b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3039840" y="6553080"/>
            <a:ext cx="2942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Arial"/>
              </a:rPr>
              <a:t>ESIP Federation Talk, July 8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3"/>
          <p:cNvSpPr/>
          <p:nvPr/>
        </p:nvSpPr>
        <p:spPr>
          <a:xfrm>
            <a:off x="59760" y="6539040"/>
            <a:ext cx="12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84b81"/>
                </a:solidFill>
                <a:latin typeface="Arial"/>
              </a:rPr>
              <a:t>Wilson et a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3509640" y="654516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GU Talk, Dec. 17,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7"/>
          <p:cNvSpPr/>
          <p:nvPr/>
        </p:nvSpPr>
        <p:spPr>
          <a:xfrm>
            <a:off x="7705440" y="655308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67C4-9910-44BB-BD3B-E3945954B694}" type="slidenum">
              <a:rPr b="0" lang="en-US" sz="1400" spc="-1" strike="noStrike">
                <a:solidFill>
                  <a:srgbClr val="184b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3039840" y="6553080"/>
            <a:ext cx="2942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Arial"/>
              </a:rPr>
              <a:t>ESIP Federation Talk, July 8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4CD9-EB63-4816-859A-98D127CCD3B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A869-EF07-4639-9FB1-A311E721813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1F5E-DC0F-44A5-8D6A-D2A49DAF720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2EBC-974A-40DD-9287-76652064049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53C4-B313-4116-B070-4DD0EDA167D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2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f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cf"/>
                </a:solidFill>
                <a:latin typeface="Arial"/>
              </a:rPr>
              <a:t>Practical” Provenance</a:t>
            </a:r>
            <a:br>
              <a:rPr sz="3600"/>
            </a:br>
            <a:r>
              <a:rPr b="1" lang="en-US" sz="3600" spc="-1" strike="noStrike">
                <a:solidFill>
                  <a:srgbClr val="0000cf"/>
                </a:solidFill>
                <a:latin typeface="Arial"/>
              </a:rPr>
              <a:t>Using SciFlo Workfl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4"/>
          <p:cNvSpPr/>
          <p:nvPr/>
        </p:nvSpPr>
        <p:spPr>
          <a:xfrm>
            <a:off x="284040" y="5410080"/>
            <a:ext cx="398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4a84"/>
                </a:solidFill>
                <a:latin typeface="Arial"/>
              </a:rPr>
              <a:t>Brian Wil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4a84"/>
                </a:solidFill>
                <a:latin typeface="Arial"/>
              </a:rPr>
              <a:t>Gerald Manipon and Hook H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04a84"/>
                </a:solidFill>
                <a:latin typeface="Arial"/>
              </a:rPr>
              <a:t>Jet Propulsion Labora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 Box 2"/>
          <p:cNvSpPr/>
          <p:nvPr/>
        </p:nvSpPr>
        <p:spPr>
          <a:xfrm>
            <a:off x="6561720" y="136692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Carbon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3"/>
          <p:cNvSpPr/>
          <p:nvPr/>
        </p:nvSpPr>
        <p:spPr>
          <a:xfrm>
            <a:off x="762120" y="998640"/>
            <a:ext cx="7931160" cy="41464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0" anchor="t">
            <a:spAutoFit/>
          </a:bodyPr>
          <a:p>
            <a:pPr marL="262080" indent="-262080"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bugging production (instrument drift, algorithm bu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data granule caused a production failu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executable version yielded “dubious” produc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raceable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data observed a climate event/anoma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data contributed to analysis of a climate trend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producible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-generate the science analysis years l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 peer reviewers to reproduce and vary the science analysis by executing the work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4"/>
          <p:cNvSpPr/>
          <p:nvPr/>
        </p:nvSpPr>
        <p:spPr>
          <a:xfrm>
            <a:off x="638280" y="82440"/>
            <a:ext cx="82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f"/>
                </a:solidFill>
                <a:latin typeface="Arial"/>
              </a:rPr>
              <a:t>Uses of Prov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Text Box 2"/>
          <p:cNvSpPr/>
          <p:nvPr/>
        </p:nvSpPr>
        <p:spPr>
          <a:xfrm>
            <a:off x="6561720" y="136692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Carbon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3"/>
          <p:cNvSpPr/>
          <p:nvPr/>
        </p:nvSpPr>
        <p:spPr>
          <a:xfrm>
            <a:off x="792000" y="836640"/>
            <a:ext cx="7931160" cy="50608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0" anchor="t">
            <a:spAutoFit/>
          </a:bodyPr>
          <a:p>
            <a:pPr marL="262080" indent="-262080"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wo Approach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strument the Production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l out to ‘provenance capture’ API to record meta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uld be web service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ru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ly retain what you explicitly s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Use Formal Workflow for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notated workflow document contains prove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sions of ope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ice end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mediate &amp; final results, or pointers to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links to limit combinatorial explo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rkflow points to entire provenance, if URI’s are perma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4"/>
          <p:cNvSpPr/>
          <p:nvPr/>
        </p:nvSpPr>
        <p:spPr>
          <a:xfrm>
            <a:off x="1049400" y="82440"/>
            <a:ext cx="80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f"/>
                </a:solidFill>
                <a:latin typeface="Arial"/>
              </a:rPr>
              <a:t>Provenance in Production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ext Box 2"/>
          <p:cNvSpPr/>
          <p:nvPr/>
        </p:nvSpPr>
        <p:spPr>
          <a:xfrm>
            <a:off x="6561720" y="136692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Carbon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3"/>
          <p:cNvSpPr/>
          <p:nvPr/>
        </p:nvSpPr>
        <p:spPr>
          <a:xfrm>
            <a:off x="792000" y="698400"/>
            <a:ext cx="7931160" cy="54874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0" anchor="t">
            <a:spAutoFit/>
          </a:bodyPr>
          <a:p>
            <a:pPr marL="262080" indent="-262080"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hain of provenance is a directed graph linking inputs, processors with configuration, &amp; computed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aving the graph (replicas of resour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llet pro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unnecessary du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binatorial explo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aving the graph (links to  resour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enance graph is on the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links rot, so more frag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mportance of permanent names (simplifies probl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manent names under-used on the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RL’s can be permanent, just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enance system can guarantee perman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so could migrate to another system, e.g. X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4"/>
          <p:cNvSpPr/>
          <p:nvPr/>
        </p:nvSpPr>
        <p:spPr>
          <a:xfrm>
            <a:off x="609480" y="82440"/>
            <a:ext cx="809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f"/>
                </a:solidFill>
                <a:latin typeface="Arial"/>
              </a:rPr>
              <a:t>Provenance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 Box 2"/>
          <p:cNvSpPr/>
          <p:nvPr/>
        </p:nvSpPr>
        <p:spPr>
          <a:xfrm>
            <a:off x="457200" y="673200"/>
            <a:ext cx="824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4"/>
          <p:cNvSpPr/>
          <p:nvPr/>
        </p:nvSpPr>
        <p:spPr>
          <a:xfrm>
            <a:off x="1600200" y="763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Example:  Subsetting Work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2" descr=""/>
          <p:cNvPicPr/>
          <p:nvPr/>
        </p:nvPicPr>
        <p:blipFill>
          <a:blip r:embed="rId1"/>
          <a:stretch/>
        </p:blipFill>
        <p:spPr>
          <a:xfrm>
            <a:off x="152280" y="1170000"/>
            <a:ext cx="8839440" cy="2639880"/>
          </a:xfrm>
          <a:prstGeom prst="rect">
            <a:avLst/>
          </a:prstGeom>
          <a:ln w="0">
            <a:noFill/>
          </a:ln>
        </p:spPr>
      </p:pic>
      <p:sp>
        <p:nvSpPr>
          <p:cNvPr id="659" name="TextBox 7"/>
          <p:cNvSpPr/>
          <p:nvPr/>
        </p:nvSpPr>
        <p:spPr>
          <a:xfrm>
            <a:off x="2837880" y="68580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R Granule Subs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Picture 3" descr=""/>
          <p:cNvPicPr/>
          <p:nvPr/>
        </p:nvPicPr>
        <p:blipFill>
          <a:blip r:embed="rId2"/>
          <a:stretch/>
        </p:blipFill>
        <p:spPr>
          <a:xfrm>
            <a:off x="182520" y="4078440"/>
            <a:ext cx="8732880" cy="2017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 Box 2"/>
          <p:cNvSpPr/>
          <p:nvPr/>
        </p:nvSpPr>
        <p:spPr>
          <a:xfrm>
            <a:off x="457200" y="673200"/>
            <a:ext cx="824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4"/>
          <p:cNvSpPr/>
          <p:nvPr/>
        </p:nvSpPr>
        <p:spPr>
          <a:xfrm>
            <a:off x="1447920" y="763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nnotated SciFlo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2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925040" cy="61610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Text Box 2"/>
          <p:cNvSpPr/>
          <p:nvPr/>
        </p:nvSpPr>
        <p:spPr>
          <a:xfrm>
            <a:off x="457200" y="673200"/>
            <a:ext cx="824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4"/>
          <p:cNvSpPr/>
          <p:nvPr/>
        </p:nvSpPr>
        <p:spPr>
          <a:xfrm>
            <a:off x="1447920" y="763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uto-generated SciFlo Input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2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6127920"/>
          </a:xfrm>
          <a:prstGeom prst="rect">
            <a:avLst/>
          </a:prstGeom>
          <a:ln w="0">
            <a:noFill/>
          </a:ln>
        </p:spPr>
      </p:pic>
      <p:sp>
        <p:nvSpPr>
          <p:cNvPr id="667" name="TextBox 5"/>
          <p:cNvSpPr/>
          <p:nvPr/>
        </p:nvSpPr>
        <p:spPr>
          <a:xfrm>
            <a:off x="7227360" y="1447920"/>
            <a:ext cx="1680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put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8" name="Straight Arrow Connector 7"/>
          <p:cNvCxnSpPr>
            <a:stCxn id="667" idx="2"/>
          </p:cNvCxnSpPr>
          <p:nvPr/>
        </p:nvCxnSpPr>
        <p:spPr>
          <a:xfrm flipH="1">
            <a:off x="7085880" y="1847520"/>
            <a:ext cx="98172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9" name="Straight Arrow Connector 9"/>
          <p:cNvCxnSpPr>
            <a:stCxn id="667" idx="2"/>
          </p:cNvCxnSpPr>
          <p:nvPr/>
        </p:nvCxnSpPr>
        <p:spPr>
          <a:xfrm flipH="1">
            <a:off x="7619400" y="1847520"/>
            <a:ext cx="448200" cy="9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Text Box 2"/>
          <p:cNvSpPr/>
          <p:nvPr/>
        </p:nvSpPr>
        <p:spPr>
          <a:xfrm>
            <a:off x="457200" y="673200"/>
            <a:ext cx="824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4"/>
          <p:cNvSpPr/>
          <p:nvPr/>
        </p:nvSpPr>
        <p:spPr>
          <a:xfrm>
            <a:off x="1447920" y="76320"/>
            <a:ext cx="6553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ocessing Step #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Box 4"/>
          <p:cNvSpPr/>
          <p:nvPr/>
        </p:nvSpPr>
        <p:spPr>
          <a:xfrm>
            <a:off x="2616480" y="681120"/>
            <a:ext cx="41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to versioned web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2" descr=""/>
          <p:cNvPicPr/>
          <p:nvPr/>
        </p:nvPicPr>
        <p:blipFill>
          <a:blip r:embed="rId1"/>
          <a:stretch/>
        </p:blipFill>
        <p:spPr>
          <a:xfrm>
            <a:off x="128520" y="1209600"/>
            <a:ext cx="8886960" cy="4886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 Box 2"/>
          <p:cNvSpPr/>
          <p:nvPr/>
        </p:nvSpPr>
        <p:spPr>
          <a:xfrm>
            <a:off x="457200" y="673200"/>
            <a:ext cx="824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4"/>
          <p:cNvSpPr/>
          <p:nvPr/>
        </p:nvSpPr>
        <p:spPr>
          <a:xfrm>
            <a:off x="1447920" y="76320"/>
            <a:ext cx="6553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ocessing Step #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Box 4"/>
          <p:cNvSpPr/>
          <p:nvPr/>
        </p:nvSpPr>
        <p:spPr>
          <a:xfrm>
            <a:off x="2616840" y="681120"/>
            <a:ext cx="45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to method in python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2" descr=""/>
          <p:cNvPicPr/>
          <p:nvPr/>
        </p:nvPicPr>
        <p:blipFill>
          <a:blip r:embed="rId1"/>
          <a:stretch/>
        </p:blipFill>
        <p:spPr>
          <a:xfrm>
            <a:off x="76320" y="1239840"/>
            <a:ext cx="8991360" cy="3941640"/>
          </a:xfrm>
          <a:prstGeom prst="rect">
            <a:avLst/>
          </a:prstGeom>
          <a:ln w="0">
            <a:noFill/>
          </a:ln>
        </p:spPr>
      </p:pic>
      <p:sp>
        <p:nvSpPr>
          <p:cNvPr id="678" name="TextBox 6"/>
          <p:cNvSpPr/>
          <p:nvPr/>
        </p:nvSpPr>
        <p:spPr>
          <a:xfrm>
            <a:off x="685800" y="5257800"/>
            <a:ext cx="701028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sion provena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Execution engine adds version an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Or here code bundle is versio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 Box 2"/>
          <p:cNvSpPr/>
          <p:nvPr/>
        </p:nvSpPr>
        <p:spPr>
          <a:xfrm>
            <a:off x="457200" y="673200"/>
            <a:ext cx="824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4"/>
          <p:cNvSpPr/>
          <p:nvPr/>
        </p:nvSpPr>
        <p:spPr>
          <a:xfrm>
            <a:off x="1447920" y="76320"/>
            <a:ext cx="6553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nnotated Results Se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Box 4"/>
          <p:cNvSpPr/>
          <p:nvPr/>
        </p:nvSpPr>
        <p:spPr>
          <a:xfrm>
            <a:off x="2088360" y="681120"/>
            <a:ext cx="543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document exact granules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2" descr=""/>
          <p:cNvPicPr/>
          <p:nvPr/>
        </p:nvPicPr>
        <p:blipFill>
          <a:blip r:embed="rId1"/>
          <a:stretch/>
        </p:blipFill>
        <p:spPr>
          <a:xfrm>
            <a:off x="42840" y="1143000"/>
            <a:ext cx="9024840" cy="5195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 Box 2"/>
          <p:cNvSpPr/>
          <p:nvPr/>
        </p:nvSpPr>
        <p:spPr>
          <a:xfrm>
            <a:off x="457200" y="673200"/>
            <a:ext cx="824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4"/>
          <p:cNvSpPr/>
          <p:nvPr/>
        </p:nvSpPr>
        <p:spPr>
          <a:xfrm>
            <a:off x="1447920" y="76320"/>
            <a:ext cx="6553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nnotated Results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Box 4"/>
          <p:cNvSpPr/>
          <p:nvPr/>
        </p:nvSpPr>
        <p:spPr>
          <a:xfrm>
            <a:off x="1709280" y="681120"/>
            <a:ext cx="651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mediate results from each processing s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Picture 2" descr=""/>
          <p:cNvPicPr/>
          <p:nvPr/>
        </p:nvPicPr>
        <p:blipFill>
          <a:blip r:embed="rId1"/>
          <a:stretch/>
        </p:blipFill>
        <p:spPr>
          <a:xfrm>
            <a:off x="27000" y="1147680"/>
            <a:ext cx="9040680" cy="4948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3"/>
          <p:cNvSpPr/>
          <p:nvPr/>
        </p:nvSpPr>
        <p:spPr>
          <a:xfrm>
            <a:off x="3276720" y="228600"/>
            <a:ext cx="2209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4"/>
          <p:cNvSpPr/>
          <p:nvPr/>
        </p:nvSpPr>
        <p:spPr>
          <a:xfrm>
            <a:off x="1295280" y="685800"/>
            <a:ext cx="7239240" cy="58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0000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cf"/>
                </a:solidFill>
                <a:latin typeface="Arial"/>
              </a:rPr>
              <a:t>Decade-Scale Climate Science Using Workflow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cf"/>
                </a:solidFill>
                <a:latin typeface="Arial"/>
              </a:rPr>
              <a:t>Review of SciFlo:  Scientific DataFlow Eng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cf"/>
                </a:solidFill>
                <a:latin typeface="Arial"/>
              </a:rPr>
              <a:t>Uses of Prov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cf"/>
                </a:solidFill>
                <a:latin typeface="Arial"/>
              </a:rPr>
              <a:t>Auto-provenance from dataflow execution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1250"/>
              </a:spcBef>
              <a:buClr>
                <a:srgbClr val="0000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f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or versions, annotated result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f"/>
                </a:solidFill>
                <a:latin typeface="Arial"/>
              </a:rPr>
              <a:t> “</a:t>
            </a:r>
            <a:r>
              <a:rPr b="0" lang="en-US" sz="2400" spc="-1" strike="noStrike">
                <a:solidFill>
                  <a:srgbClr val="0000cf"/>
                </a:solidFill>
                <a:latin typeface="Arial"/>
              </a:rPr>
              <a:t>Practical Provenan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1250"/>
              </a:spcBef>
              <a:buClr>
                <a:srgbClr val="0000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f"/>
                </a:solidFill>
                <a:latin typeface="Arial"/>
                <a:ea typeface="ＭＳ Ｐゴシック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mit to work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1250"/>
              </a:spcBef>
              <a:buClr>
                <a:srgbClr val="0000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 basic provenance for 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1250"/>
              </a:spcBef>
              <a:buClr>
                <a:srgbClr val="0000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roducible work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1250"/>
              </a:spcBef>
              <a:buClr>
                <a:srgbClr val="0000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web graph to stor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 Box 2"/>
          <p:cNvSpPr/>
          <p:nvPr/>
        </p:nvSpPr>
        <p:spPr>
          <a:xfrm>
            <a:off x="6561720" y="136692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Carbon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3"/>
          <p:cNvSpPr/>
          <p:nvPr/>
        </p:nvSpPr>
        <p:spPr>
          <a:xfrm>
            <a:off x="792000" y="698400"/>
            <a:ext cx="7931160" cy="58842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0" anchor="t">
            <a:spAutoFit/>
          </a:bodyPr>
          <a:p>
            <a:pPr marL="262080" indent="-262080"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eb Services &amp; Operators versio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sioned URI’s or anno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snapshot code bundles, or better a virtual image of OS with installed ope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ave (small) intermediat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ticularly, list of input data granules returned from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still reproduce workflow even if service/op un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iFlo user controls what is sa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ovenance is contained in annotated SciFlo doc. and resources it links to (URI’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enance is immediately returned to user with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tributed provenance implicit in links between work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 replicas can be bundled according to user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 not necessary, but can be used for archiving/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enance graph can be transformed to OPM/XML for interoper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4"/>
          <p:cNvSpPr/>
          <p:nvPr/>
        </p:nvSpPr>
        <p:spPr>
          <a:xfrm>
            <a:off x="609480" y="82440"/>
            <a:ext cx="809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f"/>
                </a:solidFill>
                <a:latin typeface="Arial"/>
              </a:rPr>
              <a:t>Provenance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Text Box 2"/>
          <p:cNvSpPr/>
          <p:nvPr/>
        </p:nvSpPr>
        <p:spPr>
          <a:xfrm>
            <a:off x="6561720" y="136692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Carbon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3"/>
          <p:cNvSpPr/>
          <p:nvPr/>
        </p:nvSpPr>
        <p:spPr>
          <a:xfrm>
            <a:off x="1066680" y="762120"/>
            <a:ext cx="7931160" cy="55184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0" anchor="t">
            <a:spAutoFit/>
          </a:bodyPr>
          <a:p>
            <a:pPr marL="262080" indent="-262080"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ommit to Workflow (many other benefi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clarative production str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o-parallel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rkflow can be distributed using web services (multi-sensor, multi-data center sci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et Basic Provenance For F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eed to instrument production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enance graph implicit in SciFlo document &amp; REST UR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graph of permanent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y policy, can archive resource replicas (with URL redir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eb Services 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tributed provenance is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iFlo or OPM docs. link to each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ce full graph by following REST URL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roducible work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4"/>
          <p:cNvSpPr/>
          <p:nvPr/>
        </p:nvSpPr>
        <p:spPr>
          <a:xfrm>
            <a:off x="609480" y="82440"/>
            <a:ext cx="809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cf"/>
                </a:solidFill>
                <a:latin typeface="Arial"/>
              </a:rPr>
              <a:t>Practical” Prov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447920" y="75960"/>
            <a:ext cx="71625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arge-Scale, Distributed Data 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42880" y="86688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ind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Level-2 datasets across multiple data 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/time granule query for multiple EOS (“A-Train”) instruments – AIRS, AMSR-E, AMSU, MODIS, Cloudsat, 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-locat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retrievals using space/time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ntaneous “matchups” in space &amp;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ad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erature, water vapor, quality flags, cloud properties (HD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derstand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s, quality control (non-trivial !!)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ublis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erged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 vapor climatology, stratified by Cloudsat cloud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ublish multi-sens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“fused”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instrument biases, understand by stratif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se L2 data on a common 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2"/>
          <p:cNvSpPr/>
          <p:nvPr/>
        </p:nvSpPr>
        <p:spPr>
          <a:xfrm>
            <a:off x="1193760" y="720720"/>
            <a:ext cx="71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4b81"/>
                </a:solidFill>
                <a:latin typeface="Arial"/>
              </a:rPr>
              <a:t>AIRS/GPS Temperature &amp; Water Vapor Comparison 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4"/>
          <p:cNvSpPr/>
          <p:nvPr/>
        </p:nvSpPr>
        <p:spPr>
          <a:xfrm>
            <a:off x="1009800" y="76320"/>
            <a:ext cx="7219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f"/>
                </a:solidFill>
                <a:latin typeface="Arial"/>
              </a:rPr>
              <a:t>AIRS / GPS Match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5" descr="cmp_plot"/>
          <p:cNvPicPr/>
          <p:nvPr/>
        </p:nvPicPr>
        <p:blipFill>
          <a:blip r:embed="rId1"/>
          <a:stretch/>
        </p:blipFill>
        <p:spPr>
          <a:xfrm>
            <a:off x="1090440" y="1133640"/>
            <a:ext cx="6972480" cy="5221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Text Box 2"/>
          <p:cNvSpPr/>
          <p:nvPr/>
        </p:nvSpPr>
        <p:spPr>
          <a:xfrm>
            <a:off x="735120" y="708120"/>
            <a:ext cx="7839000" cy="51692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0" anchor="t">
            <a:spAutoFit/>
          </a:bodyPr>
          <a:p>
            <a:pPr marL="262080" indent="-262080">
              <a:spcBef>
                <a:spcPts val="601"/>
              </a:spcBef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utomate large-scale, multi-instrument science processing by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authoring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a dataflow document that specifies a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tre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of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executabl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operators/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f"/>
                </a:solidFill>
                <a:latin typeface="Arial"/>
                <a:ea typeface="ＭＳ Ｐゴシック"/>
              </a:rPr>
              <a:t>VizFl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Visual Authoring Tool (AJAX GUI in brow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tributed Dataflow Execution Engine (in pyth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f"/>
                </a:solidFill>
                <a:latin typeface="Arial"/>
                <a:ea typeface="ＭＳ Ｐゴシック"/>
              </a:rPr>
              <a:t>Data Gri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Move data “granules” to the operators using FTP, HTTP, or OpenDAP UR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f"/>
                </a:solidFill>
                <a:latin typeface="Arial"/>
                <a:ea typeface="ＭＳ Ｐゴシック"/>
              </a:rPr>
              <a:t>Compute Gri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Move operators (executables) to the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ilt-in reusable operators provided for many tasks such as subsetting, co-registration, regridding, data fusio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stom operators easily plugged in by scienti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verage convergence of Web Services (SOAP) with Grid Services (Globus toolkit v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3"/>
          <p:cNvSpPr/>
          <p:nvPr/>
        </p:nvSpPr>
        <p:spPr>
          <a:xfrm>
            <a:off x="457200" y="88920"/>
            <a:ext cx="824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ciFlo Workflow 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75960"/>
            <a:ext cx="7696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rvice/Operator Orche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90360" y="828720"/>
            <a:ext cx="7848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ach SciFlo processing step is one of: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empl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XML (or string)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ttp GET) call:  e.g. WMS/WCS, DAP UR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O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rvice call:  “have WSDL, will cal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X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.0 transformation for XML me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XQu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.0 query/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-line script or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ecu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yth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tist’s custom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DL or MATL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(What do you need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2"/>
          <p:cNvSpPr/>
          <p:nvPr/>
        </p:nvSpPr>
        <p:spPr>
          <a:xfrm>
            <a:off x="457200" y="673200"/>
            <a:ext cx="824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3"/>
          <p:cNvSpPr/>
          <p:nvPr/>
        </p:nvSpPr>
        <p:spPr>
          <a:xfrm>
            <a:off x="1104840" y="703440"/>
            <a:ext cx="732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PS-AIRS Matchup &amp; Temp. Profile Compa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1600200" y="76320"/>
            <a:ext cx="6095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VizFlow Flow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5" descr="GpsAirsComparsion_vizflow_canvas"/>
          <p:cNvPicPr/>
          <p:nvPr/>
        </p:nvPicPr>
        <p:blipFill>
          <a:blip r:embed="rId1"/>
          <a:stretch/>
        </p:blipFill>
        <p:spPr>
          <a:xfrm>
            <a:off x="1171440" y="1276200"/>
            <a:ext cx="6934320" cy="4718160"/>
          </a:xfrm>
          <a:prstGeom prst="rect">
            <a:avLst/>
          </a:prstGeom>
          <a:ln w="0">
            <a:noFill/>
          </a:ln>
        </p:spPr>
      </p:pic>
      <p:sp>
        <p:nvSpPr>
          <p:cNvPr id="641" name="Text Box 6"/>
          <p:cNvSpPr/>
          <p:nvPr/>
        </p:nvSpPr>
        <p:spPr>
          <a:xfrm>
            <a:off x="1995480" y="4781520"/>
            <a:ext cx="6029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nect a series of services and operators into a data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Drag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services/operators from menu, and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drop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onto the can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Lay out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the flowchart by moving no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onnect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the input/output ports by drawing 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User guided by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matching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up port names and ty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676520" y="98280"/>
            <a:ext cx="68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ciFlo As an Authoring Toolk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933120" y="87624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ssemble operators by writing XML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 SOAP data query/access services to custom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able algorithms written by scient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L, MATLAB, or python codes can become ope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ciFlo Engine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Genera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eb (HTML) form to call the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ublish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ustom flow as a new SOAP service (if desi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reate many SOAP Services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glue or SOAP code to w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write science algorithms, in language of 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ublish Analysis F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hange SciFlo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d products have lineage &amp; user anno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ext Box 2"/>
          <p:cNvSpPr/>
          <p:nvPr/>
        </p:nvSpPr>
        <p:spPr>
          <a:xfrm>
            <a:off x="6561720" y="136692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Carbon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3"/>
          <p:cNvSpPr/>
          <p:nvPr/>
        </p:nvSpPr>
        <p:spPr>
          <a:xfrm>
            <a:off x="792000" y="698400"/>
            <a:ext cx="7931160" cy="61891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0" anchor="t">
            <a:spAutoFit/>
          </a:bodyPr>
          <a:p>
            <a:pPr marL="262080" indent="-262080"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MAPS = Aerosol Modeling And Process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my Braverman, ACCESS PI; Joyce Penner, U. Michi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are Aerosol Optical Depth (AOD) from MODIS, MISR, &amp; AERONET to IMPACT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QUA = Automated Query &amp;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e-year ACCESS ECHO grant (Brian Wilson, P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omated, repeatable access to 5-year EOS datasets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rge-sc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ata min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EASUREs Project – Eric Fetzer, 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blish a temperature &amp; water vapor climatology stratified by cloud scene (CloudSat classes) using A-Train data (AIRS, AMSR-E, AMSU, MODIS, M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imate Virtual Observ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ine the biases of temperature retrievals from AIRS, AMSU, MLS by comparisons to GPS oc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atify biases by geophysical conditions, cloud scene, etc.; study decade-scale tre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4"/>
          <p:cNvSpPr/>
          <p:nvPr/>
        </p:nvSpPr>
        <p:spPr>
          <a:xfrm>
            <a:off x="638280" y="82440"/>
            <a:ext cx="82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f"/>
                </a:solidFill>
                <a:latin typeface="Arial"/>
              </a:rPr>
              <a:t>SciFlo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7:22:41Z</dcterms:created>
  <dc:creator>JPL</dc:creator>
  <dc:description/>
  <dc:language>en-US</dc:language>
  <cp:lastModifiedBy>Jet Propulsion Laboratory</cp:lastModifiedBy>
  <dcterms:modified xsi:type="dcterms:W3CDTF">2009-07-08T20:29:42Z</dcterms:modified>
  <cp:revision>422</cp:revision>
  <dc:subject/>
  <dc:title>PowerPoint Presentation</dc:title>
</cp:coreProperties>
</file>